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358-71A9-40B4-A7D4-87D49AE1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014-D4F7-47C7-B124-70CB1464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24A-6F0A-4BA7-9047-72B9B5DA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819-40A7-4A24-9A5F-CD0BCB76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6C3-B750-42EA-9472-FD29B0CF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E6A-AC8A-4B0C-8FA4-A0FE2344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43F-78F8-4290-B526-C96A4919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DBD-09CE-4842-AB9E-9434375A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317-67FA-4615-A9D9-5A220D9F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E4B-9350-460E-9FF5-DB306BB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664-D437-4BD9-BFD4-FFB60CDE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435-D1C8-447B-8C5D-7627C10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28D-B602-49B7-B1B8-B4E0E4B34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Family Life in The Medieval Perio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4008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ara G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Different Kinds of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3333600" cy="219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4264200" cy="282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095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A peasants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2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A lords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541008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A middle class citizens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orks Citi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uard, Susan. "Women in Medieval Society." 1993 1. 02 18 2008 &lt;http://www.questia.com/PM.qst?a=o&amp;d=24951717&gt;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"Love, Marriage, Romance &amp; Women...." 1998 02 18 2008 &lt;http://www.dfwx.com/medieval_cult.html&gt;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ies, Frances. "The Medieval Child, Part 1." 197. 02 18 2008 &lt;http://historymedren.about.com/library/weekly/aa100500a.htm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entury"/>
              </a:rPr>
              <a:t>A few fa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We know little about the family life and economics of mediev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Women were not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They valued childhood in some cases, but in others they saw children as adults from the time they were very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Men were seen as head of the household, strict, and hard-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a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Many mothers did not make it through childbirth, a priest would come and they would have to do everything a dying man would do, just incase they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A baby would be baptized 8 days after it was born, but if the baby died it would not be discussed and be thrown into a ditch in the corner of a church y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A midwife would usually baptize the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entury"/>
              </a:rPr>
              <a:t>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Children were mostly treated as if they were adults by the time they could wal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The boys would grow up to learn there fathers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The average father would spend more time scolding his children than showing affection fo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For the most part, there are no children's songs, pictures of children, or writings of how wonderful children were to have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6957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Century"/>
              </a:rPr>
              <a:t>Childr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entury"/>
              </a:rPr>
              <a:t>For a child's past times many sports would be played, such as tennis, chess, and wrest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entury"/>
              </a:rPr>
              <a:t>Teenagers who liked to show their rebellious sides would often ga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entury"/>
              </a:rPr>
              <a:t>Many teenagers were married very young, there are even some cases of twelve and thirteen year olds being married and living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entury"/>
              </a:rPr>
              <a:t>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Women had no choice in who they mar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Who you married determined how well you would live the rest of your life by how much money, cattle, and land your husband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Usually a whole town, even the lords would help the parents decide a good match for their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7315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entury"/>
              </a:rPr>
              <a:t>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Very rarely the men were able to choose there b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Most couples were generally strangers until the parents introduce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A notice was posted on the church door to notify when the wedding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Girls were usually 12 and the boy was usually 17 when they were told they would be mar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entury"/>
              </a:rPr>
              <a:t>Marriage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When the marriage notice was posted people from the town would come forward and tell the family if there were any reasons they should not be mar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One major reason was that the couple was to closely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If a person knew that one of them was a rapist, committed adultery, or was a thief they would come forward and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entury"/>
              </a:rPr>
              <a:t>A Peasants 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Mostly made from o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A house was one story high, with a loft or attic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A fire burned at almost all times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There was a hole in the ceiling called a louvre that let smoke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Thieves often broke into the house by cutting a hole in the wall because it was much quieter than breaking the lock on the front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67080" y="4648320"/>
            <a:ext cx="4600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7:23:44Z</dcterms:created>
  <dc:creator>Phil Fite</dc:creator>
  <dc:description/>
  <dc:language>en-US</dc:language>
  <cp:lastModifiedBy>Sara </cp:lastModifiedBy>
  <dcterms:modified xsi:type="dcterms:W3CDTF">2008-02-19T03:24:41Z</dcterms:modified>
  <cp:revision>3</cp:revision>
  <dc:subject/>
  <dc:title>Family Life in The Medieval Period</dc:title>
</cp:coreProperties>
</file>